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28E6-21C1-4842-ADCA-E63BC01C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0DE-0545-4F20-8635-2ED860B8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17BD-0D9A-42DE-90FD-554CD93E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3704-EDB7-415B-B493-FBAAC731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38BAF-9D83-4AA4-A06C-0009C975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3DAC0-21EB-40B5-9B9A-A13D2FB9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DF16F-AF85-4AD3-B0AD-B81901CA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9CF74-C6A4-40CF-8B5E-74099582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7181A-A01F-43E3-8585-1307C3F3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AD8EE-48AF-421C-BCE8-86C1D773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B510F-A8C9-4911-BF1A-BF15A9AE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204C-3EBC-4674-9551-BD85FE25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8503A-36A6-4E05-A827-F52D2669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9135A-5C1B-4077-A9C3-CE7407EC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08B21-4150-44E1-8AF1-2C659513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4F724-99BE-4148-BB4E-41F4DD62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9668A-FA4A-44E7-A5E8-4F1C2B99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F9C9-E8AD-4BBF-8DED-F9777227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2464-B4E3-4700-94F0-785E2891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828E-7CC8-49FC-A464-E2F1C337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245-5A31-4360-93DC-E85B0537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99F-1D73-49A0-84E6-0A809316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566A-8AF7-4BA8-AB1C-9A4E4662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A7D-0F55-48C7-81DD-78E54797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30EA-C4F4-404A-AB57-D78F2AB58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9DAE-22BE-4163-A303-DD72420A6C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RSPECTIVES ON THE CIVIL RIGHTS MOVE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Sever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our Alexa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Recep Ars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e the Civil Rights Movement in Alabama by examining the causes, reactions, and eff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NEC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520" y="2514600"/>
            <a:ext cx="403884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ctures of public transpor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ore students experience with public transportation by having discu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1219320"/>
            <a:ext cx="4476600" cy="3238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28600" y="44197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Stra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e Re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ptable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deo (cartoon about American Histor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youtube.com/watch?v=xieOPvWLji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ALYZING DOCU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mary &amp; Secondary Docu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o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ce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itor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y Soul is Res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OS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urnal En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ragraph: Occupation, Living Condi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ragrap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ragrap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urnal Entry pertaining to proposal of addressing today’s injust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20:24:22Z</dcterms:created>
  <dc:creator>Media User</dc:creator>
  <dc:description/>
  <dc:language>en-US</dc:language>
  <cp:lastModifiedBy> </cp:lastModifiedBy>
  <dcterms:modified xsi:type="dcterms:W3CDTF">2007-06-23T13:16:07Z</dcterms:modified>
  <cp:revision>4</cp:revision>
  <dc:subject/>
  <dc:title>Slide 1</dc:title>
</cp:coreProperties>
</file>